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68D-3A45-424E-84C3-208A17B7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DF4-C6BA-4A73-9DCD-A70698B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BFE-BC26-4AF5-8039-1E76EF00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F49-8729-455F-BFF5-A63E5A26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39E-CAF2-44A8-8C41-4FD85AF2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3D2-AB68-4E64-B534-C1327BD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652-0BC2-4CE3-903F-CF7FA626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38C-D5EC-441E-8F53-276443E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026-B0D7-4BCC-9F38-CE1C77E0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3CA-A9AC-44CF-AC18-1AE2506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A10-E2E1-4F76-82F0-25B589A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B1F-CAB8-449B-96CA-38EC83F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728D-8A8C-4786-A6E1-7FA38CA8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9-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I can identify problems and evaluate solu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8951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atch the vide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hat was ONE problem and the solution/s?  Was/were the solution/s effective?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 Problems/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Problems and Solutions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“Fighting for Fairnes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will begin the problem/solution graphic organizer together, and then you will finish it by your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you complete the graphic organizer,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ndependen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oose an article from the front of the r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LET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 annotations on the artic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RR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RJ, answ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ajor problem (conflict) in your article?  What were the solutions?  Explain if you believe the solution was or was not ef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RRJ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ain problem in my article is that 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olution was to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know this because the text said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text also mentioned 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do OR do not believe this solution was effective because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RRJs with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1:16:55Z</dcterms:created>
  <dc:creator>Administrator</dc:creator>
  <dc:description/>
  <dc:language>en-US</dc:language>
  <cp:lastModifiedBy>Administrator</cp:lastModifiedBy>
  <dcterms:modified xsi:type="dcterms:W3CDTF">2010-08-31T22:28:27Z</dcterms:modified>
  <cp:revision>4</cp:revision>
  <dc:subject/>
  <dc:title>9-1 I can identify problems and evaluate solutions.</dc:title>
</cp:coreProperties>
</file>